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C987-FF06-40BF-B06F-27F05193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B69-A660-4ECA-B27E-FEFF7A9D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6CA2-32A3-4842-BEBC-D8763E75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FF61-142B-4A87-9518-0527F61F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4DD8-4D8C-4A8E-8BF1-1744AC39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A251-0BF4-4326-AB31-8AFCE09A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82C6-ACC3-4B7B-B74E-4A93E4ED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DCE8-0171-465B-95BC-DBF37FB6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3110-403A-4827-813A-CEAFC6B6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A3EC-1DE3-4341-A2F4-689E50BC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178C-2BCC-48E8-BE8B-0D7B0FCD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912-EECA-40C0-B43B-39056592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0CAF-D68C-4DD8-B3E8-A428EEE2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0BA6-0171-4B9A-A338-6AEE7AFC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1FFC-CAE6-4DB4-971E-BA86B8E6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79D2-B162-48A7-A8C5-FF2E3AEB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73F7-6E1E-4F10-80F7-1DD68498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942-9EDA-40E3-B9CF-00F78BB0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F72-946D-42AA-B83C-FDC2BFA5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29E9-FEC6-4447-9383-F531C0F7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7DC5-CFE6-4D08-9E77-B0344194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3CC-25D5-4DC9-A803-65153A02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7B4-1D23-4529-B165-7229F4FF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EA6-A532-4B90-818E-2B234779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0742-2603-4232-88C3-2AB5D2ACA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B0C0-9F41-4E8B-BE9C-96575B238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rnwab01.wav" TargetMode="External"/><Relationship Id="rId2" Type="http://schemas.microsoft.com/office/2007/relationships/media" Target="file:///tmp/home/.config/libreoffice/4/user/gallery/srnwab01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4400" spc="-1" strike="noStrike">
                <a:solidFill>
                  <a:srgbClr val="221304"/>
                </a:solidFill>
                <a:latin typeface="Century Gothic"/>
              </a:rPr>
              <a:t>Pacific Northwest Fores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81080" y="5086080"/>
            <a:ext cx="59436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yler B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21304"/>
                </a:solidFill>
                <a:latin typeface="Arial"/>
              </a:rPr>
              <a:t>Subject and Grade Lev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s Unit will be used in a  4th grade cla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4495680"/>
            <a:ext cx="70866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 is an interdisciplinary Unit on pacific northwest forests that utilizes skills in art, language arts, and social sci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21304"/>
                </a:solidFill>
                <a:latin typeface="Century Gothic"/>
              </a:rPr>
              <a:t>Curriculum Framing Ques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ssential Question: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y should we respect the earth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Unit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makes our forests spec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role do our forests play in our l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162920" y="2454120"/>
            <a:ext cx="150948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21304"/>
                </a:solidFill>
                <a:latin typeface="Century Gothic"/>
              </a:rPr>
              <a:t>Oregon State Standard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4400"/>
                </a:solidFill>
                <a:uFillTx/>
                <a:latin typeface="Century Gothic"/>
              </a:rPr>
              <a:t>4th grade Standards for Art, Language arts, and Social scie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400"/>
                </a:solidFill>
                <a:latin typeface="Century Gothic"/>
              </a:rPr>
              <a:t>Create, present, and perform works of 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400"/>
                </a:solidFill>
                <a:latin typeface="Century Gothic"/>
              </a:rPr>
              <a:t>Find, understand, and use specific information in a variety of texts across the subject areas to perform a 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400"/>
                </a:solidFill>
                <a:latin typeface="Century Gothic"/>
              </a:rPr>
              <a:t>Understand economic trade offs and how choices result in both costs and benefits to individuals and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6832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1981080"/>
            <a:ext cx="6522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772400" y="5257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entury Gothic"/>
              </a:rPr>
              <a:t>Learning Objectiv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239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160020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The students wi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ain an understanding of what a forest is and how it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ppreciate the benefits our forests provide us wit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13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2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23:37:16Z</dcterms:created>
  <dc:creator>ICT User</dc:creator>
  <dc:description/>
  <dc:language>en-US</dc:language>
  <cp:lastModifiedBy>Andrea Olsen</cp:lastModifiedBy>
  <dcterms:modified xsi:type="dcterms:W3CDTF">2009-07-29T04:22:49Z</dcterms:modified>
  <cp:revision>63</cp:revision>
  <dc:subject/>
  <dc:title>Computers and My Kindergartners</dc:title>
</cp:coreProperties>
</file>